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4C22-B4F3-4CF1-9EF5-C0336CFFF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4975-A5BF-476B-998C-3F76B3BAA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FA2E-8BD6-4B79-9B0E-348F9B733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F4F1-1667-4592-9920-63BE9E38A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A23DE-6961-449C-90DF-FA426AF23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51E86-60B8-45D7-87F3-94F90B553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53D26-6DFE-4043-BB80-AD186CC59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C0705-59FF-4AF1-AD06-628B698E4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1F17F-C960-48B2-A3D6-4038E4DA3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57C59-2F61-4232-8898-A4F00E45B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F928F-C414-43E3-87F3-94E822EE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5210-BEC0-4466-A402-3C677D0DD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9C46E-53DC-43F9-A2C2-4D026999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72EAE-D798-4F37-9677-C12AAD79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0A483-B2B4-48E7-9A26-94E55A73F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33584-721B-484B-9757-F9FEE2CFE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348F1-321C-494E-ACBB-BF9D184C6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D7A7-899B-497F-ACCF-A9679B2FD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ED19-2FF0-4BE6-BC42-83B358368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905A-7F55-4100-ADF7-B593C42BF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ACC9-31D0-49CD-B6B4-58BD14A59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1939-5BA6-4551-813A-8074CC32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E614-E72E-4E16-B657-0861ECB8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09F6-A8CD-4738-A5C5-D18132CC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08F9F-4C85-4DA7-8B45-E16AA25D546A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66A5E-C1F1-44CB-93E5-10412396E5FE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WordArt 5" descr=""/>
          <p:cNvPicPr/>
          <p:nvPr/>
        </p:nvPicPr>
        <p:blipFill>
          <a:blip r:embed="rId1"/>
          <a:stretch/>
        </p:blipFill>
        <p:spPr>
          <a:xfrm>
            <a:off x="171360" y="109440"/>
            <a:ext cx="8863200" cy="6596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3" descr="9"/>
          <p:cNvPicPr/>
          <p:nvPr/>
        </p:nvPicPr>
        <p:blipFill>
          <a:blip r:embed="rId2"/>
          <a:stretch/>
        </p:blipFill>
        <p:spPr>
          <a:xfrm>
            <a:off x="179280" y="4797360"/>
            <a:ext cx="2594160" cy="1835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3"/>
          <p:cNvPicPr/>
          <p:nvPr/>
        </p:nvPicPr>
        <p:blipFill>
          <a:blip r:embed="rId3"/>
          <a:stretch/>
        </p:blipFill>
        <p:spPr>
          <a:xfrm>
            <a:off x="6516720" y="4797360"/>
            <a:ext cx="2374920" cy="1728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10"/>
          <p:cNvPicPr/>
          <p:nvPr/>
        </p:nvPicPr>
        <p:blipFill>
          <a:blip r:embed="rId4"/>
          <a:stretch/>
        </p:blipFill>
        <p:spPr>
          <a:xfrm>
            <a:off x="3348000" y="4005360"/>
            <a:ext cx="273672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5"/>
          <p:cNvSpPr/>
          <p:nvPr/>
        </p:nvSpPr>
        <p:spPr>
          <a:xfrm>
            <a:off x="158760" y="25560"/>
            <a:ext cx="87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сполнение бюджета поселения за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I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квартал 2017 года в разрезе функциональной классификации расхо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Овал 3"/>
          <p:cNvSpPr/>
          <p:nvPr/>
        </p:nvSpPr>
        <p:spPr>
          <a:xfrm>
            <a:off x="1714680" y="1071720"/>
            <a:ext cx="6002280" cy="1439640"/>
          </a:xfrm>
          <a:prstGeom prst="ellipse">
            <a:avLst/>
          </a:prstGeom>
          <a:solidFill>
            <a:srgbClr val="7e4e99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Общегосударственные вопрос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(содержание органа местного самоуправления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1 062,6 тыс. рублей (37,3%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Блок-схема: альтернативный процесс 7"/>
          <p:cNvSpPr/>
          <p:nvPr/>
        </p:nvSpPr>
        <p:spPr>
          <a:xfrm>
            <a:off x="3348000" y="2790720"/>
            <a:ext cx="2664000" cy="2202120"/>
          </a:xfrm>
          <a:prstGeom prst="flowChartAlternateProcess">
            <a:avLst/>
          </a:prstGeom>
          <a:solidFill>
            <a:srgbClr val="4f4d52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Функционирование Правительства Российской Федерации, высших исполнительных органов государственной власти субъектов Российской федерации, местных администраци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 705,2 тыс. рублей (42,3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Блок-схема: альтернативный процесс 8"/>
          <p:cNvSpPr/>
          <p:nvPr/>
        </p:nvSpPr>
        <p:spPr>
          <a:xfrm>
            <a:off x="6156360" y="2565360"/>
            <a:ext cx="2879640" cy="971640"/>
          </a:xfrm>
          <a:prstGeom prst="flowChartAlternateProcess">
            <a:avLst/>
          </a:prstGeom>
          <a:solidFill>
            <a:srgbClr val="4f4d52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Другие общегосударственные вопрос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455,4 тыс. рублей (25,8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Блок-схема: процесс 11"/>
          <p:cNvSpPr/>
          <p:nvPr/>
        </p:nvSpPr>
        <p:spPr>
          <a:xfrm>
            <a:off x="3492360" y="5546880"/>
            <a:ext cx="2374920" cy="1122120"/>
          </a:xfrm>
          <a:prstGeom prst="flowChartProcess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Центральный аппарат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 705,2 тыс. рублей (42,3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Блок-схема: процесс 12"/>
          <p:cNvSpPr/>
          <p:nvPr/>
        </p:nvSpPr>
        <p:spPr>
          <a:xfrm>
            <a:off x="6227640" y="3716280"/>
            <a:ext cx="2808360" cy="1479600"/>
          </a:xfrm>
          <a:prstGeom prst="flowChartProcess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Реализация направления расходов в рамках муниципальной программы «Информационное общество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66,2 тыс. рублей (36,7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0" name="Прямая со стрелкой 14"/>
          <p:cNvCxnSpPr>
            <a:stCxn id="105" idx="4"/>
            <a:endCxn id="106" idx="0"/>
          </p:cNvCxnSpPr>
          <p:nvPr/>
        </p:nvCxnSpPr>
        <p:spPr>
          <a:xfrm flipH="1">
            <a:off x="4679280" y="2511360"/>
            <a:ext cx="35640" cy="28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Прямая со стрелкой 17"/>
          <p:cNvCxnSpPr>
            <a:stCxn id="105" idx="5"/>
            <a:endCxn id="107" idx="0"/>
          </p:cNvCxnSpPr>
          <p:nvPr/>
        </p:nvCxnSpPr>
        <p:spPr>
          <a:xfrm>
            <a:off x="6837480" y="2300400"/>
            <a:ext cx="759600" cy="265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2" name="Прямая со стрелкой 44"/>
          <p:cNvCxnSpPr>
            <a:stCxn id="106" idx="2"/>
            <a:endCxn id="108" idx="0"/>
          </p:cNvCxnSpPr>
          <p:nvPr/>
        </p:nvCxnSpPr>
        <p:spPr>
          <a:xfrm>
            <a:off x="4679640" y="4992480"/>
            <a:ext cx="1080" cy="554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Соединительная линия уступом 17408"/>
          <p:cNvCxnSpPr/>
          <p:nvPr/>
        </p:nvCxnSpPr>
        <p:spPr>
          <a:xfrm flipH="1">
            <a:off x="7740000" y="357336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4" name="Прямоугольник 18"/>
          <p:cNvSpPr/>
          <p:nvPr/>
        </p:nvSpPr>
        <p:spPr>
          <a:xfrm>
            <a:off x="5940360" y="5589720"/>
            <a:ext cx="3095640" cy="115236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Реализация направления расходов в рамках муниципальной программы «Муниципальная политика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0,0 тыс. рублей (0,0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5" name="Прямая со стрелкой 20"/>
          <p:cNvCxnSpPr/>
          <p:nvPr/>
        </p:nvCxnSpPr>
        <p:spPr>
          <a:xfrm flipH="1">
            <a:off x="6732720" y="3645000"/>
            <a:ext cx="576360" cy="194544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5"/>
          <p:cNvSpPr/>
          <p:nvPr/>
        </p:nvSpPr>
        <p:spPr>
          <a:xfrm>
            <a:off x="158760" y="25560"/>
            <a:ext cx="87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сполнение бюджета поселения за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I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квартал 2017 года в разрезе функциональной классификации расхо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1214280" y="1071720"/>
            <a:ext cx="73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государственные вопрос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Содержимое 6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5"/>
          <p:cNvSpPr/>
          <p:nvPr/>
        </p:nvSpPr>
        <p:spPr>
          <a:xfrm>
            <a:off x="158760" y="25560"/>
            <a:ext cx="87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сполнение бюджета поселения за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I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квартал 2017 года в разрезе функциональной классификации расхо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Овал 3"/>
          <p:cNvSpPr/>
          <p:nvPr/>
        </p:nvSpPr>
        <p:spPr>
          <a:xfrm>
            <a:off x="395280" y="1484280"/>
            <a:ext cx="8280360" cy="1728720"/>
          </a:xfrm>
          <a:prstGeom prst="ellipse">
            <a:avLst/>
          </a:prstGeom>
          <a:solidFill>
            <a:srgbClr val="7e4e99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циональная оборо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расходы по субвенциям на осуществление первичного воинского учета на территориях, где отсутствуют военные комиссариаты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79,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тыс. рублей (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45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6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%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5"/>
          <p:cNvSpPr/>
          <p:nvPr/>
        </p:nvSpPr>
        <p:spPr>
          <a:xfrm>
            <a:off x="158760" y="25560"/>
            <a:ext cx="87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сполнение бюджета поселения за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I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квартал 2017 года в разрезе функциональной классификации расхо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Овал 3"/>
          <p:cNvSpPr/>
          <p:nvPr/>
        </p:nvSpPr>
        <p:spPr>
          <a:xfrm>
            <a:off x="1528920" y="1652760"/>
            <a:ext cx="6265800" cy="1441440"/>
          </a:xfrm>
          <a:prstGeom prst="ellipse">
            <a:avLst/>
          </a:prstGeom>
          <a:solidFill>
            <a:srgbClr val="7e4e99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ациональная эконом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 120,5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ыс. рублей (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87,9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%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Блок-схема: альтернативный процесс 16"/>
          <p:cNvSpPr/>
          <p:nvPr/>
        </p:nvSpPr>
        <p:spPr>
          <a:xfrm>
            <a:off x="1835280" y="3429000"/>
            <a:ext cx="4968720" cy="1227240"/>
          </a:xfrm>
          <a:prstGeom prst="flowChartAlternateProcess">
            <a:avLst/>
          </a:prstGeom>
          <a:solidFill>
            <a:srgbClr val="4f4d52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Дорожное хозяйство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(дорожные фонды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1 120,5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тыс. рублей (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87,9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Прямая со стрелкой 22"/>
          <p:cNvCxnSpPr>
            <a:stCxn id="122" idx="4"/>
          </p:cNvCxnSpPr>
          <p:nvPr/>
        </p:nvCxnSpPr>
        <p:spPr>
          <a:xfrm flipH="1">
            <a:off x="4642560" y="3094200"/>
            <a:ext cx="1980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5" name="Блок-схема: альтернативный процесс 33"/>
          <p:cNvSpPr/>
          <p:nvPr/>
        </p:nvSpPr>
        <p:spPr>
          <a:xfrm>
            <a:off x="2195640" y="4869000"/>
            <a:ext cx="4370400" cy="1989000"/>
          </a:xfrm>
          <a:prstGeom prst="flowChartAlternateProcess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Расходы на ремонт и содержание автомобильных дорог общего пользования местного значения в рамках подпрограммы «Развитие транспортной инфраструктуры Митякинского сельского поселения» муниципальной программы Митякинского сельского поселения «Развитие транспортной системы»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Прямая со стрелкой 34"/>
          <p:cNvCxnSpPr/>
          <p:nvPr/>
        </p:nvCxnSpPr>
        <p:spPr>
          <a:xfrm>
            <a:off x="4140000" y="465300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5"/>
          <p:cNvSpPr/>
          <p:nvPr/>
        </p:nvSpPr>
        <p:spPr>
          <a:xfrm>
            <a:off x="158760" y="25560"/>
            <a:ext cx="871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сполнение бюджета поселения за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I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квартал 2017 года в разрезе функциональной классификации расхо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Box 5"/>
          <p:cNvSpPr/>
          <p:nvPr/>
        </p:nvSpPr>
        <p:spPr>
          <a:xfrm>
            <a:off x="571680" y="1214280"/>
            <a:ext cx="80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циональная эконом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Диаграмма 4" descr=""/>
          <p:cNvPicPr/>
          <p:nvPr/>
        </p:nvPicPr>
        <p:blipFill>
          <a:blip r:embed="rId1"/>
          <a:stretch/>
        </p:blipFill>
        <p:spPr>
          <a:xfrm>
            <a:off x="1332000" y="1928880"/>
            <a:ext cx="619740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5"/>
          <p:cNvSpPr/>
          <p:nvPr/>
        </p:nvSpPr>
        <p:spPr>
          <a:xfrm>
            <a:off x="158760" y="25560"/>
            <a:ext cx="87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сполнение бюджета поселения за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I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квартал 2017 года в разрезе функциональной классификации расхо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Овал 3"/>
          <p:cNvSpPr/>
          <p:nvPr/>
        </p:nvSpPr>
        <p:spPr>
          <a:xfrm>
            <a:off x="1403280" y="1125360"/>
            <a:ext cx="6265800" cy="1438560"/>
          </a:xfrm>
          <a:prstGeom prst="ellipse">
            <a:avLst/>
          </a:prstGeom>
          <a:solidFill>
            <a:srgbClr val="7e4e99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Жилищно-коммунальное хозяй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Book Antiqua"/>
              </a:rPr>
              <a:t>220,1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 тыс. рублей (</a:t>
            </a:r>
            <a:r>
              <a:rPr b="0" lang="en-US" sz="1800" spc="-1" strike="noStrike">
                <a:solidFill>
                  <a:srgbClr val="ffff00"/>
                </a:solidFill>
                <a:latin typeface="Book Antiqua"/>
              </a:rPr>
              <a:t>19,4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%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Блок-схема: альтернативный процесс 18"/>
          <p:cNvSpPr/>
          <p:nvPr/>
        </p:nvSpPr>
        <p:spPr>
          <a:xfrm>
            <a:off x="2771640" y="4221000"/>
            <a:ext cx="3888000" cy="2232360"/>
          </a:xfrm>
          <a:prstGeom prst="flowChartAlternateProcess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Расходы по техническому обслуживанию газопроводов в рамках подпрограммы «Создание условий для обеспечения качественными жилищно-коммунальными услугами населения Митякинского сельского поселения» муниципальной программы «Обеспечение качественными услугами населения Митякинского сельского поселения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0,8 тыс. рублей (5,3 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Блок-схема: альтернативный процесс 33"/>
          <p:cNvSpPr/>
          <p:nvPr/>
        </p:nvSpPr>
        <p:spPr>
          <a:xfrm>
            <a:off x="5148360" y="2852640"/>
            <a:ext cx="2786040" cy="744480"/>
          </a:xfrm>
          <a:prstGeom prst="flowChartAlternateProcess">
            <a:avLst/>
          </a:prstGeom>
          <a:solidFill>
            <a:srgbClr val="4f4d52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b0f0"/>
                </a:solidFill>
                <a:latin typeface="Times New Roman"/>
              </a:rPr>
              <a:t>Коммунальное хозяйств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f0"/>
                </a:solidFill>
                <a:latin typeface="Book Antiqua"/>
              </a:rPr>
              <a:t>19,4</a:t>
            </a:r>
            <a:r>
              <a:rPr b="1" lang="ru-RU" sz="1400" spc="-1" strike="noStrike">
                <a:solidFill>
                  <a:srgbClr val="00b0f0"/>
                </a:solidFill>
                <a:latin typeface="Times New Roman"/>
              </a:rPr>
              <a:t> тыс. рублей (</a:t>
            </a:r>
            <a:r>
              <a:rPr b="1" lang="en-US" sz="1400" spc="-1" strike="noStrike">
                <a:solidFill>
                  <a:srgbClr val="00b0f0"/>
                </a:solidFill>
                <a:latin typeface="Book Antiqua"/>
              </a:rPr>
              <a:t>16,7</a:t>
            </a:r>
            <a:r>
              <a:rPr b="1" lang="ru-RU" sz="1400" spc="-1" strike="noStrike">
                <a:solidFill>
                  <a:srgbClr val="00b0f0"/>
                </a:solidFill>
                <a:latin typeface="Times New Roman"/>
              </a:rPr>
              <a:t> 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4" name="Прямая со стрелкой 34"/>
          <p:cNvCxnSpPr>
            <a:stCxn id="131" idx="6"/>
            <a:endCxn id="133" idx="0"/>
          </p:cNvCxnSpPr>
          <p:nvPr/>
        </p:nvCxnSpPr>
        <p:spPr>
          <a:xfrm flipH="1">
            <a:off x="6541200" y="1844640"/>
            <a:ext cx="1127880" cy="1008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5" name="Блок-схема: альтернативный процесс 52"/>
          <p:cNvSpPr/>
          <p:nvPr/>
        </p:nvSpPr>
        <p:spPr>
          <a:xfrm>
            <a:off x="395280" y="2708280"/>
            <a:ext cx="2787480" cy="930240"/>
          </a:xfrm>
          <a:prstGeom prst="flowChartAlternateProcess">
            <a:avLst/>
          </a:prstGeom>
          <a:solidFill>
            <a:srgbClr val="4f4d52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b0f0"/>
                </a:solidFill>
                <a:latin typeface="Times New Roman"/>
              </a:rPr>
              <a:t>Благоустройств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f0"/>
                </a:solidFill>
                <a:latin typeface="Book Antiqua"/>
              </a:rPr>
              <a:t>200,6</a:t>
            </a:r>
            <a:r>
              <a:rPr b="0" lang="ru-RU" sz="1400" spc="-1" strike="noStrike">
                <a:solidFill>
                  <a:srgbClr val="00b0f0"/>
                </a:solidFill>
                <a:latin typeface="Times New Roman"/>
              </a:rPr>
              <a:t> тыс. рублей (</a:t>
            </a:r>
            <a:r>
              <a:rPr b="0" lang="en-US" sz="1400" spc="-1" strike="noStrike">
                <a:solidFill>
                  <a:srgbClr val="00b0f0"/>
                </a:solidFill>
                <a:latin typeface="Book Antiqua"/>
              </a:rPr>
              <a:t>19,6</a:t>
            </a:r>
            <a:r>
              <a:rPr b="0" lang="ru-RU" sz="1400" spc="-1" strike="noStrike">
                <a:solidFill>
                  <a:srgbClr val="00b0f0"/>
                </a:solidFill>
                <a:latin typeface="Times New Roman"/>
              </a:rPr>
              <a:t>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6" name="Прямая со стрелкой 53"/>
          <p:cNvCxnSpPr>
            <a:stCxn id="131" idx="4"/>
            <a:endCxn id="135" idx="0"/>
          </p:cNvCxnSpPr>
          <p:nvPr/>
        </p:nvCxnSpPr>
        <p:spPr>
          <a:xfrm flipH="1">
            <a:off x="1788480" y="2563560"/>
            <a:ext cx="274860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7" name="Прямая со стрелкой 17415"/>
          <p:cNvCxnSpPr>
            <a:stCxn id="135" idx="2"/>
          </p:cNvCxnSpPr>
          <p:nvPr/>
        </p:nvCxnSpPr>
        <p:spPr>
          <a:xfrm>
            <a:off x="1788840" y="3638160"/>
            <a:ext cx="1080" cy="14220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138" name="Соединительная линия уступом 19"/>
          <p:cNvCxnSpPr>
            <a:endCxn id="132" idx="3"/>
          </p:cNvCxnSpPr>
          <p:nvPr/>
        </p:nvCxnSpPr>
        <p:spPr>
          <a:xfrm rot="5400000">
            <a:off x="5955840" y="4348080"/>
            <a:ext cx="1692720" cy="286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9" name="Скругленный прямоугольник 1"/>
          <p:cNvSpPr/>
          <p:nvPr/>
        </p:nvSpPr>
        <p:spPr>
          <a:xfrm>
            <a:off x="395280" y="4076640"/>
            <a:ext cx="2305080" cy="2737080"/>
          </a:xfrm>
          <a:custGeom>
            <a:avLst/>
            <a:gdLst>
              <a:gd name="textAreaLeft" fmla="*/ 112320 w 2305080"/>
              <a:gd name="textAreaRight" fmla="*/ 2192760 w 2305080"/>
              <a:gd name="textAreaTop" fmla="*/ 112320 h 2737080"/>
              <a:gd name="textAreaBottom" fmla="*/ 2624760 h 2737080"/>
            </a:gdLst>
            <a:ahLst/>
            <a:rect l="textAreaLeft" t="textAreaTop" r="textAreaRight" b="textAreaBottom"/>
            <a:pathLst>
              <a:path w="21600" h="25647">
                <a:moveTo>
                  <a:pt x="3600" y="0"/>
                </a:moveTo>
                <a:arcTo wR="3600" hR="3600" stAng="16200000" swAng="-5400000"/>
                <a:lnTo>
                  <a:pt x="0" y="22047"/>
                </a:lnTo>
                <a:arcTo wR="3600" hR="3600" stAng="10800000" swAng="-5400000"/>
                <a:lnTo>
                  <a:pt x="18000" y="256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сходы на благоустройство территории Посе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0" name="Прямая со стрелкой 4"/>
          <p:cNvCxnSpPr/>
          <p:nvPr/>
        </p:nvCxnSpPr>
        <p:spPr>
          <a:xfrm>
            <a:off x="1788840" y="3710160"/>
            <a:ext cx="1080" cy="36720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sp>
        <p:nvSpPr>
          <p:cNvPr id="141" name="Скругленный прямоугольник 2"/>
          <p:cNvSpPr/>
          <p:nvPr/>
        </p:nvSpPr>
        <p:spPr>
          <a:xfrm>
            <a:off x="7105680" y="4221000"/>
            <a:ext cx="1765440" cy="2303640"/>
          </a:xfrm>
          <a:custGeom>
            <a:avLst/>
            <a:gdLst>
              <a:gd name="textAreaLeft" fmla="*/ 86040 w 1765440"/>
              <a:gd name="textAreaRight" fmla="*/ 1679400 w 1765440"/>
              <a:gd name="textAreaTop" fmla="*/ 86040 h 2303640"/>
              <a:gd name="textAreaBottom" fmla="*/ 2217600 h 2303640"/>
            </a:gdLst>
            <a:ahLst/>
            <a:rect l="textAreaLeft" t="textAreaTop" r="textAreaRight" b="textAreaBottom"/>
            <a:pathLst>
              <a:path w="21600" h="28183">
                <a:moveTo>
                  <a:pt x="3600" y="0"/>
                </a:moveTo>
                <a:arcTo wR="3600" hR="3600" stAng="16200000" swAng="-5400000"/>
                <a:lnTo>
                  <a:pt x="0" y="24583"/>
                </a:lnTo>
                <a:arcTo wR="3600" hR="3600" stAng="10800000" swAng="-5400000"/>
                <a:lnTo>
                  <a:pt x="18000" y="281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плата электроэнергии за дорожное освещен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8,6 тыс. рублей (18,6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2" name="Прямая со стрелкой 6"/>
          <p:cNvCxnSpPr>
            <a:endCxn id="141" idx="0"/>
          </p:cNvCxnSpPr>
          <p:nvPr/>
        </p:nvCxnSpPr>
        <p:spPr>
          <a:xfrm>
            <a:off x="6945120" y="3709800"/>
            <a:ext cx="1043640" cy="51156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Блок-схема: альтернативный процесс 52"/>
          <p:cNvSpPr/>
          <p:nvPr/>
        </p:nvSpPr>
        <p:spPr>
          <a:xfrm>
            <a:off x="2770200" y="836640"/>
            <a:ext cx="3529080" cy="1219320"/>
          </a:xfrm>
          <a:prstGeom prst="flowChartAlternateProcess">
            <a:avLst/>
          </a:prstGeom>
          <a:solidFill>
            <a:srgbClr val="4f4d52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Times New Roman"/>
              </a:rPr>
              <a:t>Благоустройств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</a:rPr>
              <a:t>200,6 тыс. рублей (19,6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Блок-схема: альтернативный процесс 20"/>
          <p:cNvSpPr/>
          <p:nvPr/>
        </p:nvSpPr>
        <p:spPr>
          <a:xfrm>
            <a:off x="0" y="2492280"/>
            <a:ext cx="3095640" cy="3745080"/>
          </a:xfrm>
          <a:prstGeom prst="flowChartAlternateProcess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Расходы на содержание и текущий ремонт мест захоронения на территории Митякинского сельского поселения в рамках подпрограммы «Организация благоустройства территории Митякинского сельского поселения» муниципальной программы «Обеспечение качественными жилищно-коммунальными услугами населения Митякинского сельского поселения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8,4 тыс. рублей (93,3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Блок-схема: альтернативный процесс 21"/>
          <p:cNvSpPr/>
          <p:nvPr/>
        </p:nvSpPr>
        <p:spPr>
          <a:xfrm>
            <a:off x="6012000" y="2438280"/>
            <a:ext cx="2736720" cy="3816360"/>
          </a:xfrm>
          <a:prstGeom prst="flowChartAlternateProcess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Расходы на благоустройство территории Митякинского сельского поселения в рамках подпрограммы «Организация благоустройства территории Митякинского сельского поселения» муниципальной программы «Обеспечение качественными жилищно-коммунальными услугами населения Митякинского сельского поселения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95,0 тыс. рублей (34,8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6" name="Прямая со стрелкой 16"/>
          <p:cNvCxnSpPr/>
          <p:nvPr/>
        </p:nvCxnSpPr>
        <p:spPr>
          <a:xfrm flipH="1">
            <a:off x="1402560" y="1474920"/>
            <a:ext cx="1367640" cy="1018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7" name="Прямая со стрелкой 22"/>
          <p:cNvCxnSpPr>
            <a:endCxn id="143" idx="0"/>
          </p:cNvCxnSpPr>
          <p:nvPr/>
        </p:nvCxnSpPr>
        <p:spPr>
          <a:xfrm>
            <a:off x="4535280" y="0"/>
            <a:ext cx="1080" cy="83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8" name="Скругленный прямоугольник 2"/>
          <p:cNvSpPr/>
          <p:nvPr/>
        </p:nvSpPr>
        <p:spPr>
          <a:xfrm>
            <a:off x="3276720" y="2492280"/>
            <a:ext cx="2374920" cy="3816360"/>
          </a:xfrm>
          <a:custGeom>
            <a:avLst/>
            <a:gdLst>
              <a:gd name="textAreaLeft" fmla="*/ 115920 w 2374920"/>
              <a:gd name="textAreaRight" fmla="*/ 2259000 w 2374920"/>
              <a:gd name="textAreaTop" fmla="*/ 115920 h 3816360"/>
              <a:gd name="textAreaBottom" fmla="*/ 3700440 h 3816360"/>
            </a:gdLst>
            <a:ahLst/>
            <a:rect l="textAreaLeft" t="textAreaTop" r="textAreaRight" b="textAreaBottom"/>
            <a:pathLst>
              <a:path w="21600" h="34708">
                <a:moveTo>
                  <a:pt x="3600" y="0"/>
                </a:moveTo>
                <a:arcTo wR="3600" hR="3600" stAng="16200000" swAng="-5400000"/>
                <a:lnTo>
                  <a:pt x="0" y="31108"/>
                </a:lnTo>
                <a:arcTo wR="3600" hR="3600" stAng="10800000" swAng="-5400000"/>
                <a:lnTo>
                  <a:pt x="18000" y="347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ХОДЫ ПО СПИЛИВАНИЮ АВАРИЙНЫХ ДЕРЕВЬЕВ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в рамках подпрограммы «Организация благоустройства территории Митякинского сельского поселения» муниципальной программы «Обеспечение качественными жилищно-коммунальными услугами населения Митякинского сельского поселения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96,0 тыс. рублей (9,4%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9" name="Прямая со стрелкой 3"/>
          <p:cNvCxnSpPr/>
          <p:nvPr/>
        </p:nvCxnSpPr>
        <p:spPr>
          <a:xfrm>
            <a:off x="5003280" y="2055960"/>
            <a:ext cx="2233080" cy="38304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150" name="Прямая со стрелкой 5"/>
          <p:cNvCxnSpPr/>
          <p:nvPr/>
        </p:nvCxnSpPr>
        <p:spPr>
          <a:xfrm flipH="1">
            <a:off x="4787280" y="2055960"/>
            <a:ext cx="216360" cy="38304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5"/>
          <p:cNvSpPr/>
          <p:nvPr/>
        </p:nvSpPr>
        <p:spPr>
          <a:xfrm>
            <a:off x="158760" y="25560"/>
            <a:ext cx="87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сполнение бюджета поселения за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I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квартал 2017 года в разрезе функциональной классификации расхо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1428840" y="836640"/>
            <a:ext cx="51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лагоустрой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Диаграмма 4" descr=""/>
          <p:cNvPicPr/>
          <p:nvPr/>
        </p:nvPicPr>
        <p:blipFill>
          <a:blip r:embed="rId1"/>
          <a:stretch/>
        </p:blipFill>
        <p:spPr>
          <a:xfrm>
            <a:off x="272880" y="1346040"/>
            <a:ext cx="8813880" cy="51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угольник 5"/>
          <p:cNvSpPr/>
          <p:nvPr/>
        </p:nvSpPr>
        <p:spPr>
          <a:xfrm>
            <a:off x="158760" y="25560"/>
            <a:ext cx="87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сполнение бюджета поселения за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I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квартал 2017 года в разрезе функциональной классификации расхо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Овал 3"/>
          <p:cNvSpPr/>
          <p:nvPr/>
        </p:nvSpPr>
        <p:spPr>
          <a:xfrm>
            <a:off x="1528920" y="1214280"/>
            <a:ext cx="6265800" cy="1571760"/>
          </a:xfrm>
          <a:prstGeom prst="ellipse">
            <a:avLst/>
          </a:prstGeom>
          <a:solidFill>
            <a:srgbClr val="7e4e99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Культура, кинематограф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Book Antiqua"/>
              </a:rPr>
              <a:t>785,7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 тыс. рублей (</a:t>
            </a:r>
            <a:r>
              <a:rPr b="0" lang="en-US" sz="1800" spc="-1" strike="noStrike">
                <a:solidFill>
                  <a:srgbClr val="ffff00"/>
                </a:solidFill>
                <a:latin typeface="Book Antiqua"/>
              </a:rPr>
              <a:t>40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,9%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Блок-схема: альтернативный процесс 16"/>
          <p:cNvSpPr/>
          <p:nvPr/>
        </p:nvSpPr>
        <p:spPr>
          <a:xfrm>
            <a:off x="3203640" y="2924280"/>
            <a:ext cx="2397240" cy="1071360"/>
          </a:xfrm>
          <a:prstGeom prst="flowChartAlternateProcess">
            <a:avLst/>
          </a:prstGeom>
          <a:solidFill>
            <a:srgbClr val="4f4d52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ульту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785,7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тыс. рублей (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40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,9%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7" name="Прямая со стрелкой 22"/>
          <p:cNvCxnSpPr>
            <a:endCxn id="156" idx="0"/>
          </p:cNvCxnSpPr>
          <p:nvPr/>
        </p:nvCxnSpPr>
        <p:spPr>
          <a:xfrm flipH="1">
            <a:off x="4401360" y="2781000"/>
            <a:ext cx="262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8" name="Скругленный прямоугольник 13"/>
          <p:cNvSpPr/>
          <p:nvPr/>
        </p:nvSpPr>
        <p:spPr>
          <a:xfrm>
            <a:off x="1042920" y="4292640"/>
            <a:ext cx="7345440" cy="187308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Расходы на обеспечение деятельности (оказание услуг) муниципальных бюджетных учреждений Митякинского сельского поселения, в том числе на предоставление субсидий муниципальным бюджетным учреждениям Митякинского сельского поселения в рамках подпрограммы «Развитие культуры» муниципальной программы Митякинского сельского поселения «Развитие культуры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785,7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тыс. рублей (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40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,9 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9" name="Прямая со стрелкой 24"/>
          <p:cNvCxnSpPr>
            <a:stCxn id="156" idx="2"/>
            <a:endCxn id="158" idx="0"/>
          </p:cNvCxnSpPr>
          <p:nvPr/>
        </p:nvCxnSpPr>
        <p:spPr>
          <a:xfrm>
            <a:off x="4401720" y="3995280"/>
            <a:ext cx="315000" cy="297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5"/>
          <p:cNvSpPr/>
          <p:nvPr/>
        </p:nvSpPr>
        <p:spPr>
          <a:xfrm>
            <a:off x="158760" y="25560"/>
            <a:ext cx="87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сполнение бюджета поселения за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I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квартал 2017 года в разрезе функциональной классификации расхо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Box 4"/>
          <p:cNvSpPr/>
          <p:nvPr/>
        </p:nvSpPr>
        <p:spPr>
          <a:xfrm>
            <a:off x="785880" y="765000"/>
            <a:ext cx="71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ультура, кинематограф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Диаграмма 4" descr=""/>
          <p:cNvPicPr/>
          <p:nvPr/>
        </p:nvPicPr>
        <p:blipFill>
          <a:blip r:embed="rId1"/>
          <a:stretch/>
        </p:blipFill>
        <p:spPr>
          <a:xfrm>
            <a:off x="272880" y="1360440"/>
            <a:ext cx="864900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3"/>
          <p:cNvSpPr/>
          <p:nvPr/>
        </p:nvSpPr>
        <p:spPr>
          <a:xfrm>
            <a:off x="84240" y="44280"/>
            <a:ext cx="9037440" cy="11912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Исполнение бюджета  муниципального образования  «Митякинское сельское поселение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за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II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квартал  2017 г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рямоугольник 4"/>
          <p:cNvSpPr/>
          <p:nvPr/>
        </p:nvSpPr>
        <p:spPr>
          <a:xfrm>
            <a:off x="6480" y="1341360"/>
            <a:ext cx="9037440" cy="55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формация подготовлена на основан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шения Собрания депутатов Митякинского сельского поселения от 27.12.2016 №10 «О бюджете Митякинского сельского  поселения Тарасовского района на 2017 год и на плановый период 2018 и 2019 годов»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шения Собрания депутатов Митякинского сельского поселения от 31.01.2017 №4 «О внесении изменений в решение Собрания депутатов Митякинского сельского поселения от 27.12.2016 №10 «О бюджете Митякинского сельского  поселения Тарасовского района на 2017 год и на плановый период 2018 и 2019 годов»»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шения Собрания депутатов Митякинского сельского поселения от </a:t>
            </a:r>
            <a:r>
              <a:rPr b="0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7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0</a:t>
            </a:r>
            <a:r>
              <a:rPr b="0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2017 №</a:t>
            </a:r>
            <a:r>
              <a:rPr b="0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9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«О внесении изменений в решение Собрания депутатов Митякинского сельского поселения от 27.12.2016 №10 «О бюджете Митякинского сельского  поселения Тарасовского района на 2017 год и на плановый период 2018 и 2019 годов»»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шения Собрания депутатов Митякинского сельского поселения от 31.0</a:t>
            </a:r>
            <a:r>
              <a:rPr b="0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2017 №</a:t>
            </a:r>
            <a:r>
              <a:rPr b="0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«О внесении изменений в решение Собрания депутатов Митякинского сельского поселения от 27.12.2016 №10 «О бюджете Митякинского сельского  поселения Тарасовского района на 2017 год и на плановый период 2018 и 2019 годов»»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4"/>
          <p:cNvSpPr/>
          <p:nvPr/>
        </p:nvSpPr>
        <p:spPr>
          <a:xfrm>
            <a:off x="33480" y="260280"/>
            <a:ext cx="9037440" cy="33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формация подготовлена на основан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шения Собрания депутатов Митякинского сельского поселения от </a:t>
            </a:r>
            <a:r>
              <a:rPr b="0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8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0</a:t>
            </a:r>
            <a:r>
              <a:rPr b="0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2017 №</a:t>
            </a:r>
            <a:r>
              <a:rPr b="0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1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«О внесении изменений в решение Собрания депутатов Митякинского сельского поселения от 27.12.2016 №10 «О бюджете Митякинского сельского  поселения Тарасовского района на 2017 год и на плановый период 2018 и 2019 годов»»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ектор экономики и финансов админист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итякинского сельского посе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3"/>
          <p:cNvSpPr/>
          <p:nvPr/>
        </p:nvSpPr>
        <p:spPr>
          <a:xfrm>
            <a:off x="179280" y="44280"/>
            <a:ext cx="885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сновные параметры бюджета Митякинского сельского поселения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ельского посе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а 2017 год и на плановый период 2018 и 2019 год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79280" y="1000080"/>
          <a:ext cx="8772480" cy="2857680"/>
        </p:xfrm>
        <a:graphic>
          <a:graphicData uri="http://schemas.openxmlformats.org/drawingml/2006/table">
            <a:tbl>
              <a:tblPr/>
              <a:tblGrid>
                <a:gridCol w="2192400"/>
                <a:gridCol w="2193840"/>
                <a:gridCol w="2192400"/>
                <a:gridCol w="2193840"/>
              </a:tblGrid>
              <a:tr h="69876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543466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2d5a3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543466"/>
                          </a:solidFill>
                          <a:latin typeface="Times New Roman"/>
                          <a:ea typeface="Times New Roman"/>
                        </a:rPr>
                        <a:t>2017 год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2d5a3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543466"/>
                          </a:solidFill>
                          <a:latin typeface="Times New Roman"/>
                          <a:ea typeface="Times New Roman"/>
                        </a:rPr>
                        <a:t>2018 год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2d5a3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543466"/>
                          </a:solidFill>
                          <a:latin typeface="Times New Roman"/>
                          <a:ea typeface="Times New Roman"/>
                        </a:rPr>
                        <a:t>2019 год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2d5a3"/>
                    </a:solidFill>
                  </a:tcPr>
                </a:tc>
              </a:tr>
              <a:tr h="69840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543466"/>
                          </a:solidFill>
                          <a:latin typeface="Times New Roman"/>
                          <a:ea typeface="Times New Roman"/>
                        </a:rPr>
                        <a:t>Доходы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d5a3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251,1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1e0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294,6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1e0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257,8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1e0"/>
                    </a:solidFill>
                  </a:tcPr>
                </a:tc>
              </a:tr>
              <a:tr h="76212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543466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d5a3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720,5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1e0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294,6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1e0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257,8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1e0"/>
                    </a:solidFill>
                  </a:tcPr>
                </a:tc>
              </a:tr>
              <a:tr h="69840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543466"/>
                          </a:solidFill>
                          <a:latin typeface="Times New Roman"/>
                          <a:ea typeface="Times New Roman"/>
                        </a:rPr>
                        <a:t>Дефицит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d5a3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1 469,4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1e0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1e0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1e0"/>
                    </a:solidFill>
                  </a:tcPr>
                </a:tc>
              </a:tr>
            </a:tbl>
          </a:graphicData>
        </a:graphic>
      </p:graphicFrame>
      <p:sp>
        <p:nvSpPr>
          <p:cNvPr id="91" name="Прямоугольник 5"/>
          <p:cNvSpPr/>
          <p:nvPr/>
        </p:nvSpPr>
        <p:spPr>
          <a:xfrm>
            <a:off x="179280" y="402912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ыми источниками финансирования дефицита бюджета поселения в 2017 году является изменение остатков на счетах по учёту средств бюдже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Прямоугольник 11"/>
          <p:cNvSpPr/>
          <p:nvPr/>
        </p:nvSpPr>
        <p:spPr>
          <a:xfrm>
            <a:off x="179280" y="5445000"/>
            <a:ext cx="878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ическое исполнение бюджета Митякинского сельского поселения з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вартал  2017 года составило по доходам в сумм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442,9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ыс. рублей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от уточнённого плана) и по расходам в сумм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510,0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с. рублей (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% от уточненного плана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5"/>
          <p:cNvSpPr/>
          <p:nvPr/>
        </p:nvSpPr>
        <p:spPr>
          <a:xfrm>
            <a:off x="108000" y="260280"/>
            <a:ext cx="89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олнение бюджета по доходам за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I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квартал 2017 г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50920" y="785880"/>
          <a:ext cx="8642160" cy="5946840"/>
        </p:xfrm>
        <a:graphic>
          <a:graphicData uri="http://schemas.openxmlformats.org/drawingml/2006/table">
            <a:tbl>
              <a:tblPr/>
              <a:tblGrid>
                <a:gridCol w="5189400"/>
                <a:gridCol w="1266840"/>
                <a:gridCol w="1150920"/>
                <a:gridCol w="1035000"/>
              </a:tblGrid>
              <a:tr h="71100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ход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очненный план на 2017г., тыс.рубле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ическое исполнение за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вартал., тыс.рубле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исполнения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27648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2 397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 036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43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</a:tr>
              <a:tr h="2872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9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3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</a:tr>
              <a:tr h="2458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ИНЫЙ СЕЛЬСКОХОЗЯЙСТВЕННЫЙ НАЛО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2764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,6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26964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28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9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1600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УДАРСТВЕННАЯ ПОШЛИН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3976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7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</a:tr>
              <a:tr h="49356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ОТ ИСПОЛЬЗОВАНИЯ ИМУЩЕСТВА, НАХОДЯЩЕГОСЯ В ГОСУДАРСТВЕННОЙ И МУНИЦИПАЛЬНОЙ СОБСТВЕННОС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7,9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36540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ОТ ПРОДАЖИ МАТЕРИАЛЬНЫХ И НЕМАТЕРИАЛЬНЫХ АКТИВ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35532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РАФЫ, САНКЦИИ, ВОЗМЕЩЕНИЕ УЩЕРБ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3556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НЕНАЛОГОВЫЕ ДОХОД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21276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возмездные поступл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705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383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</a:tr>
              <a:tr h="2872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тации от других бюджетов бюджетной системы Российской Федерац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465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176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29232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венции от других бюджетов бюджетной системы Российской Федерац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3,5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3664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межбюджетные трансферты, передаваемые бюджетам сельских поселен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2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</a:tr>
              <a:tr h="36504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бюджетные трансферты, передаваемые бюджетам сельских поселений из бюджетов муниципальных район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274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120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</a:tr>
              <a:tr h="33048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ХОД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251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442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Прямоугольник 3"/>
          <p:cNvGrpSpPr/>
          <p:nvPr/>
        </p:nvGrpSpPr>
        <p:grpSpPr>
          <a:xfrm>
            <a:off x="-122400" y="30240"/>
            <a:ext cx="9394920" cy="920520"/>
            <a:chOff x="-122400" y="30240"/>
            <a:chExt cx="9394920" cy="920520"/>
          </a:xfrm>
        </p:grpSpPr>
        <p:pic>
          <p:nvPicPr>
            <p:cNvPr id="96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-122400" y="30240"/>
              <a:ext cx="939492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112680" y="260280"/>
              <a:ext cx="892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Основные направления по доходам за 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II</a:t>
              </a:r>
              <a:r>
                <a:rPr b="1" lang="ru-RU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 квартал 2017 год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8" name="Диаграмма 3" descr=""/>
          <p:cNvPicPr/>
          <p:nvPr/>
        </p:nvPicPr>
        <p:blipFill>
          <a:blip r:embed="rId2"/>
          <a:stretch/>
        </p:blipFill>
        <p:spPr>
          <a:xfrm>
            <a:off x="61920" y="930240"/>
            <a:ext cx="8686800" cy="56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3"/>
          <p:cNvSpPr/>
          <p:nvPr/>
        </p:nvSpPr>
        <p:spPr>
          <a:xfrm>
            <a:off x="250920" y="3524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олнение бюджета по расходам за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I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квартал 2017 год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92240" y="857160"/>
          <a:ext cx="8843760" cy="4151520"/>
        </p:xfrm>
        <a:graphic>
          <a:graphicData uri="http://schemas.openxmlformats.org/drawingml/2006/table">
            <a:tbl>
              <a:tblPr/>
              <a:tblGrid>
                <a:gridCol w="5316480"/>
                <a:gridCol w="431640"/>
                <a:gridCol w="358920"/>
                <a:gridCol w="288720"/>
                <a:gridCol w="936720"/>
                <a:gridCol w="934920"/>
                <a:gridCol w="576360"/>
              </a:tblGrid>
              <a:tr h="1139760"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Ве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Рз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П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Уточненный план на 2017г., тыс.рубле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Фактическое исполнение за </a:t>
                      </a:r>
                      <a:r>
                        <a:rPr b="1" lang="en-US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 квартал, тыс.рубле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% испол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нения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r>
                        <a:rPr b="1" lang="en-US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786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2 160,</a:t>
                      </a: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3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62388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Функционирование Правительства Российской Федерации, высших исполнительных органов государственной власти субъектов Российской федерации, местных администрац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4 023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1 705</a:t>
                      </a: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,4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880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Другие общегосударственные вопрос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r>
                        <a:rPr b="0" lang="en-US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62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455,4</a:t>
                      </a: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Национальная оборон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173,3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79,0</a:t>
                      </a: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Мобилизационная  и вневойсковая подготов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173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79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285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Обеспечение пожарной безопаснос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285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1 274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1 120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ожное хозяйство (дорожные фонды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274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120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214200" y="214200"/>
          <a:ext cx="8812440" cy="3141720"/>
        </p:xfrm>
        <a:graphic>
          <a:graphicData uri="http://schemas.openxmlformats.org/drawingml/2006/table">
            <a:tbl>
              <a:tblPr/>
              <a:tblGrid>
                <a:gridCol w="4929480"/>
                <a:gridCol w="571320"/>
                <a:gridCol w="357120"/>
                <a:gridCol w="428760"/>
                <a:gridCol w="1023840"/>
                <a:gridCol w="934920"/>
                <a:gridCol w="567000"/>
              </a:tblGrid>
              <a:tr h="1278000"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Ве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Рз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П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Уточненный план на 2017г.,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тыс. рубле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Фактическое исполнение за </a:t>
                      </a:r>
                      <a:r>
                        <a:rPr b="1" lang="en-US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 I</a:t>
                      </a: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1 квартал, тыс. рубле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% испол-нения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2667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1 136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220,1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19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26640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Коммунальное  хозяйств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115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19,4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16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667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Благоустройств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1 021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200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19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6640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Культура, кинематография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1 920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785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40,9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26640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Культура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1 920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785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40,9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667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Перечисления другим бюджетам бюджетной системы РФ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144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144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9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</a:tr>
              <a:tr h="2642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10 720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4 51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42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5"/>
          <p:cNvSpPr/>
          <p:nvPr/>
        </p:nvSpPr>
        <p:spPr>
          <a:xfrm>
            <a:off x="158760" y="12600"/>
            <a:ext cx="871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сновные направления по расход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I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квартал 2017 г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Содержимое 5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833148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4T09:03:10Z</dcterms:created>
  <dc:creator>М.О. Косоротова</dc:creator>
  <dc:description/>
  <dc:language>en-US</dc:language>
  <cp:lastModifiedBy>W7</cp:lastModifiedBy>
  <dcterms:modified xsi:type="dcterms:W3CDTF">2017-07-26T06:41:28Z</dcterms:modified>
  <cp:revision>30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